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DF9-516C-4156-9E8C-0E144F61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445-BE92-465F-8BCF-698BE82B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950-C92A-4006-976B-171A6948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346-404C-4D0B-988F-D897451E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08D-3683-4FF5-9167-A3916B89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C25-68A0-4619-A1AD-D702049E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271-6E1A-4FEA-A8C8-C8084357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A1A-E4F4-4CE8-AA83-FF9423E2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5C0-C372-434A-83F7-928EEABC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A7D-A333-459A-8F21-F48547EE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6B4-6F47-4309-A459-B8661B14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978-6247-4843-881D-86F1BF4A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CD43-CD9F-4BE9-BC4B-66E7CDBD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ak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bou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onl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4:05Z</dcterms:modified>
  <cp:revision>4</cp:revision>
  <dc:subject/>
  <dc:title>Words in a “Snap”</dc:title>
</cp:coreProperties>
</file>